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878-AACA-44E7-A80D-324DF423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8E5-1497-4B62-93A0-064D19EF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7BB-F7A9-4A68-B499-F1591B45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3FF-7CC2-4A1C-AF38-E9BC50D9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919-5A81-4B7F-B8D6-3ABA555F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7F2-D7B8-4836-A9AD-9FE205BC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1A53-3E50-4654-82AD-CB2E3EF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A21-7766-4320-9F93-27F9AB0C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282-9C89-4EF3-93E0-57511EE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9F0-A57E-45FF-81DC-4FF3478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F17-74F4-418B-ABF3-3DDDAAD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4D5-60A0-4310-9CA7-9DEFCA1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EF76-CEEA-4D03-B7CD-7C694C2DB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6864120"/>
            <a:chOff x="0" y="0"/>
            <a:chExt cx="9144000" cy="6864120"/>
          </a:xfrm>
        </p:grpSpPr>
        <p:pic>
          <p:nvPicPr>
            <p:cNvPr id="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0" y="6554880"/>
              <a:ext cx="91440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9400" y="6557040"/>
              <a:ext cx="94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4400" y="8316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1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1278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aring and Ordering Whole Numb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4640" y="133920"/>
              <a:ext cx="77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</a:rPr>
                <a:t>1-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71600" y="62640"/>
              <a:ext cx="7772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Comparing and Ordering               Whole Numb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654984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Course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846600" y="235116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886200" y="364572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Lesson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3897720" y="3036240"/>
            <a:ext cx="34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523880"/>
            <a:ext cx="7925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rder numbers, you can compare them using place value and then write them in order from least to greatest. You can also graph the numbers on a number line. As you read the numbers from left to right, they will be ordered from least to grea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2120" y="1447920"/>
            <a:ext cx="7854480" cy="4372200"/>
            <a:chOff x="762120" y="1447920"/>
            <a:chExt cx="7854480" cy="4372200"/>
          </a:xfrm>
        </p:grpSpPr>
        <p:sp>
          <p:nvSpPr>
            <p:cNvPr id="97" name=""/>
            <p:cNvSpPr/>
            <p:nvPr/>
          </p:nvSpPr>
          <p:spPr>
            <a:xfrm>
              <a:off x="768240" y="1905120"/>
              <a:ext cx="7848360" cy="3915000"/>
            </a:xfrm>
            <a:prstGeom prst="rect">
              <a:avLst/>
            </a:pr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&lt; mea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s less than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3 &lt; 5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20 &lt; 50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&gt; mea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is greater than.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17 &gt; 9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Verdana"/>
                </a:rPr>
                <a:t>212 &gt; 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120" y="1447920"/>
              <a:ext cx="2438280" cy="45972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Remember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8049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2: Using a Number Line  to Order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286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numbers on a number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743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675 is between 600 and 7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1,044 is between 1,000 and 1,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are ordered when you read the number line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497 is between 400 and 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38080" y="4324320"/>
            <a:ext cx="7391520" cy="596880"/>
            <a:chOff x="838080" y="4324320"/>
            <a:chExt cx="7391520" cy="596880"/>
          </a:xfrm>
        </p:grpSpPr>
        <p:grpSp>
          <p:nvGrpSpPr>
            <p:cNvPr id="106" name=""/>
            <p:cNvGrpSpPr/>
            <p:nvPr/>
          </p:nvGrpSpPr>
          <p:grpSpPr>
            <a:xfrm>
              <a:off x="838080" y="4324320"/>
              <a:ext cx="7391520" cy="304920"/>
              <a:chOff x="838080" y="4324320"/>
              <a:chExt cx="7391520" cy="304920"/>
            </a:xfrm>
          </p:grpSpPr>
          <p:sp>
            <p:nvSpPr>
              <p:cNvPr id="107" name=""/>
              <p:cNvSpPr/>
              <p:nvPr/>
            </p:nvSpPr>
            <p:spPr>
              <a:xfrm>
                <a:off x="838080" y="4476600"/>
                <a:ext cx="739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4479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487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623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3526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578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102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90720" y="45529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                         600                        800                    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82880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6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962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,0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in order from least to greatest are 497, 675, and 1,04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5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:    675; 1,044; 4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33720" y="441972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40532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0064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9133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2286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ph the numbers on a number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743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732 is between 700 and 8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200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923 is between 900 and 1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8769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are ordered when you read the number line from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6576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 502 is between 500 and 6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38080" y="4324320"/>
            <a:ext cx="7391520" cy="596880"/>
            <a:chOff x="838080" y="4324320"/>
            <a:chExt cx="7391520" cy="596880"/>
          </a:xfrm>
        </p:grpSpPr>
        <p:grpSp>
          <p:nvGrpSpPr>
            <p:cNvPr id="132" name=""/>
            <p:cNvGrpSpPr/>
            <p:nvPr/>
          </p:nvGrpSpPr>
          <p:grpSpPr>
            <a:xfrm>
              <a:off x="838080" y="4324320"/>
              <a:ext cx="7391520" cy="304920"/>
              <a:chOff x="838080" y="4324320"/>
              <a:chExt cx="7391520" cy="304920"/>
            </a:xfrm>
          </p:grpSpPr>
          <p:sp>
            <p:nvSpPr>
              <p:cNvPr id="133" name=""/>
              <p:cNvSpPr/>
              <p:nvPr/>
            </p:nvSpPr>
            <p:spPr>
              <a:xfrm>
                <a:off x="838080" y="4476600"/>
                <a:ext cx="7391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79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434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487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36232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526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2578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010280" y="432432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990720" y="4552920"/>
              <a:ext cx="70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0                         600                        800                    1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057400" y="39625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96252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7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962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9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638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umbers in order from least to greatest are 502, 732, and 92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446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:    732; 923; 5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40532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439092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05080" y="4390920"/>
            <a:ext cx="152280" cy="152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9133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Lesson Qu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779120"/>
            <a:ext cx="792504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96720" indent="-396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r the numbers from least to grea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698, 469, 97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941, 914, 4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26, 847, 2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 area of Panama is 78,200 square kilometers, and the area of Lithuania is 65,200 square kilometers. Which country is smaller in ar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720" indent="-396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34754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221, 726, 8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485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Lithu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6554880"/>
            <a:ext cx="9144000" cy="304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9400" y="655704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ur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4400" y="8316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1278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ing and Ordering Who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37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91, 914, 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218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469, 698, 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1600200"/>
            <a:ext cx="8153280" cy="304812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are. Use &lt;, &gt;, or =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8     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27    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56    23    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    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1    1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7    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8920" y="2690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22480" y="2681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88920" y="3119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22480" y="3109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280" y="35575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2480" y="3562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19120" y="285768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71760" y="328608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71760" y="372420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19800" y="286704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9800" y="3276720"/>
            <a:ext cx="30456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10080" y="372420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38080" y="1600200"/>
            <a:ext cx="7467840" cy="34290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blem of the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tract your age from your age multiplied by 100. Divide the result by 11, and then divide the quotient by 9. What number do you g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41911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Your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38120" y="2438280"/>
            <a:ext cx="8305920" cy="152424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0000"/>
                </a:solidFill>
                <a:latin typeface="Verdana"/>
              </a:rPr>
              <a:t>Learn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o compare and order whole numbers using place value or a number l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4648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ndar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,202,516,1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4648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pande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7,000,000,000 + 200,000,000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,000,000 + 500,000 + 10,000 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,000 + 100 + 30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4648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416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d form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ven billion, two hundred two mill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hundred sixteen thousan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4160"/>
                <a:tab algn="l" pos="2855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hundred thirty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629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83160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Additional Example 1: Using Place Value to Compare Who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elize’s 2000 population was 249,183 people. Iceland’s 2000 population was 276,365 people. Which country had more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276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9,18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76,365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86252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 thousand is less than 70 thousa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49,183 is less than 276,3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962520" y="2895480"/>
            <a:ext cx="4876560" cy="1633320"/>
            <a:chOff x="3962520" y="2895480"/>
            <a:chExt cx="4876560" cy="1633320"/>
          </a:xfrm>
        </p:grpSpPr>
        <p:sp>
          <p:nvSpPr>
            <p:cNvPr id="82" name=""/>
            <p:cNvSpPr/>
            <p:nvPr/>
          </p:nvSpPr>
          <p:spPr>
            <a:xfrm>
              <a:off x="3962520" y="2971800"/>
              <a:ext cx="487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tart at the left and compare digits in the same place value position. Look for the first place where the values are differ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380440" y="2895480"/>
              <a:ext cx="25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5943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celand had mor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61920" y="3267000"/>
            <a:ext cx="2286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831600"/>
            <a:ext cx="8534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Check It Out: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2000, the population of San Diego, California was 1,223,400 people. In 2000, the population of Dallas, Texas was 1,188,58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ople. Which city had more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18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223,400   San D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73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188,580   D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7242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0 thousand is greater than 100 thous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,223,400 is greater than 1,188,58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962520" y="2806560"/>
            <a:ext cx="4876560" cy="1633320"/>
            <a:chOff x="3962520" y="2806560"/>
            <a:chExt cx="4876560" cy="1633320"/>
          </a:xfrm>
        </p:grpSpPr>
        <p:sp>
          <p:nvSpPr>
            <p:cNvPr id="91" name=""/>
            <p:cNvSpPr/>
            <p:nvPr/>
          </p:nvSpPr>
          <p:spPr>
            <a:xfrm>
              <a:off x="3962520" y="2882880"/>
              <a:ext cx="487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66ff"/>
                  </a:solidFill>
                  <a:latin typeface="Verdana"/>
                </a:rPr>
                <a:t>Start at the left and compare digits in the same place value position. Look for the first place where the values are differen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440" y="2806560"/>
              <a:ext cx="250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685800" y="58053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 Diego had mor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3178080"/>
            <a:ext cx="2286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1:00:50Z</dcterms:created>
  <dc:creator> </dc:creator>
  <dc:description/>
  <dc:language>en-US</dc:language>
  <cp:lastModifiedBy>stevenh</cp:lastModifiedBy>
  <dcterms:modified xsi:type="dcterms:W3CDTF">2006-04-18T21:09:23Z</dcterms:modified>
  <cp:revision>19</cp:revision>
  <dc:subject/>
  <dc:title>Slide 1</dc:title>
</cp:coreProperties>
</file>